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23E3-2697-4C5E-889E-45A52EAF0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14A-C674-49F4-B3D0-E445EBC44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C86-933F-4150-BFAB-5037E3A1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77B-0251-4DE5-85FF-AEC7EFF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F8A-EFAA-41CB-BC62-03D9FE24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C6B-E999-4345-A3C0-BD769DB2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DC7-8E02-44B5-B0BD-4EEC518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1FA-673C-412C-93D5-1556D8A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192-2826-41AE-B07F-6B7FEAAE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946-58EE-4DDD-9B87-9F835D03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F2F-819C-4652-A6F1-087D9381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2A9-193F-4BC8-9F12-48C683E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7C3-12AB-4FE0-8DB9-5DDCD19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CEE-6C75-4C12-872A-EA48906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3377-703A-42E9-B88E-D258DC5F1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7E82-5CDF-4BB9-BBFA-21C3B35DC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августа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9E7F-9041-4E00-97EB-E670E4F3A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вгуста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11880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1188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8-01T07:03:15Z</dcterms:modified>
  <cp:revision>141</cp:revision>
  <dc:subject/>
  <dc:title>Презентация PowerPoint</dc:title>
</cp:coreProperties>
</file>